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334-7A0E-4CF2-8201-7925D510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8FE-C97C-47AC-BF0D-07BBD88C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103-0C2A-4D53-AF16-2973EC4A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3EC-E6FD-46B8-A142-B6EDD255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F92DD-4FD5-42A0-BF45-E1A56A2F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A85DD-C4CF-464F-A45A-206D23DD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3A1FA-28D5-444D-A8CF-60CD1227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DCA80-A610-4A75-9CC6-35B173DF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12402-0277-4D6A-9246-C6ECF685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F1A95-C80B-4CFE-878E-B4166BAB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F1FCB-0A5E-4D6A-882C-B6987B2A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BF6-6680-4D34-90A1-754C964A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82491-98E6-49FC-8DC2-BDFB2DE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7591F-3032-447B-AD36-8B23CCF5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3E594-B6AA-43E8-9962-8BBB1474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AB23D-6EA6-49C7-A08A-AF550067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63C1F-F883-477A-A3F8-BB2A7F44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86F-A08A-46E8-A343-D39468E2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559-BA56-46E2-9AAE-FAB2D04C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FF0-BB54-4540-BD92-84887586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2B9-4ED2-4C33-959B-18E93757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276-CAE4-40B2-BEB6-86257D1F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7AF-721E-45A3-80A1-B1BB382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AF9-F119-43EA-A848-8FD3C627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1867-F859-45B0-826D-5B1C7E2F4A2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3F0A-5EB7-47CD-9B7A-F476A69F7F1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14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23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تكلفة الاقتراض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1267920"/>
            <a:ext cx="5770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حالات صعوبة ربط تكلفة الاقتراض بالأصل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دد قيمة تكلفة الاقتراض التى يمكن رسملتها باستخدام معدل للرسملة يحسب على أساس المتوسط المرجح لتكلفة الاقتراض للمنشأة عن القروض القائمة خلال الم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 تستبعد القروض التى تم إبرامها تحديداً بغرض إقتناء أصل بذا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ألا تزيد قيمة تكلفة الاقتراض المرسملة خلال فترة ما عن قيمة تكلفة الاقتراض التى تم تكبدها خلال تلك الفت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59280" y="620280"/>
            <a:ext cx="2027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بدء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7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عندما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49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أ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إنفاق على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ب) تكبد المنشأة تكلفة إقتراض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ج) تكون الأنشطة اللازمة لإعداد الأصل للاستخدام فى الأغراض المحددة له أو بيعه للغير محل تنفيذ فى الوقت الحا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احظ   ( و )    ليس   ( أو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0463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وقف عن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توقف عن رسملة تكلفة الاقتراض خلال الفترات التى تتعطل فيها أعمال الإنشاء الفعالة للأص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ا يتم تعليق رسملة تكلفة الاقتراض عندما يكون التوقف المؤقت بمثابة خطوة ضرورية فى عملية إعداد الأصل للاستخدام فى الأغراض المحددة  له أو لبيعه للغير مثل الفترات المطلوبة لنضج المخزو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انتهاء من عملية رسملة تكلفة الاقتراض عندما يتم الانتهاء من كل الأنشطة الجوهرية اللازم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إعداد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أص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ما يتم الانتهاء من إنشاء أجزاء من الأصل و يكون من الممكن استخدام كل جزء من هذه الأجزاء أثناء استمرار عملية إنشاء باقى الأجزاء الأخرى فإنه يتعين التوقف عن رسملة تكلفة الاقتراض على الأجزاء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8720" y="475920"/>
            <a:ext cx="1378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ــا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شركة حصلت على القروض الآت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تمويل مشروعاتها المتضمنة إنشاء مشروع مدينة سكن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آخ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وقد بلغت المبالغ المنفقة على مشروع المدينة السكن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مبلغ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طلوب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حديد تكلفة الاقتراض الواجب رسملتها على 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تكلفة الاقتراض الخاصة بالقرض الاول المخصص للمشرو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 – تكلفة الاقتراض الخاصة بالقروض الاخ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ثالث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رابع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كلفة الاقترا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عدل الرسملة = ـ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 المتوسط المرجح للقرو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حــ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1599840"/>
            <a:ext cx="8064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 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نصيب المشروع =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ج – تكلفة الاقتراض التى يجب رسملتها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280" y="2205000"/>
            <a:ext cx="475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640" y="278100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تحديد المعالجة المحاسبية لتكلفة الاقتراض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طلب هذا المعيار بشكل عام معالجة تكاليف الاقتراض كمصروفات فور تكبد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سمح كمعالجة بديلة برسملة تكلفة الاقتراض التى ترجع مباشرة إلى اقتناء أو إنشاء أو إنتاج أصل مؤهل لتحمل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443280" y="691920"/>
            <a:ext cx="2243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56500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7280" y="1125360"/>
            <a:ext cx="28195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ثبت تكلفة الاقتراض كمصروفات تحمل على الفترة التى تكبدت فيها المنشأة هذه التكل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لإفصاح فى القوائم المالية عن السياسة المحاسبية المتبعة لمعالجة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رسملة تكلفة الاقتراض المتعلقة مباشرة باقتناء أو إنشاء أو إنتاج الأصل الذى يتطلب بالضرورة فترة زمنية طويلة لتجهيزه للاستخدام فى الأغراض المحددة له أو لبيعه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يتم رسملة تكلفة الاقتراض هذه ضمن تكلفة الأصل عندما يكون متوقعاً أن تتسبب فى خلق منافع اقتصادية مستقبلية للمنشأة وتكون هناك إمكانية لقياس التكلفة بشكل يمكن الاعتماد عليه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5280" y="1196640"/>
            <a:ext cx="4691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كلفة الإقتراض المؤهلة للرسملة</a:t>
            </a:r>
            <a:r>
              <a:rPr b="1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ى تكلفة الاقتراض التى  كان يمكن تجنبها إذا لم يتم الإنفاق على هذا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طرح من تكلفة الاقتراض المرسملة أى إيراد تحقق من الاستثمار المؤقت للأموال المقترض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خفيض أو استبعاد الزيادة فى القيمة الدفترية للأصل نتيجة الرسملة عن قيمته الإستردادية من القيمة الدفترية للأصل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m.farouk</cp:lastModifiedBy>
  <dcterms:modified xsi:type="dcterms:W3CDTF">2006-11-13T09:02:30Z</dcterms:modified>
  <cp:revision>19</cp:revision>
  <dc:subject/>
  <dc:title>معيار المحاسبة المصرى رقم (14) تكلفة الاقتراض</dc:title>
</cp:coreProperties>
</file>